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wmf" ContentType="image/x-wmf"/>
  <Override PartName="/ppt/media/image5.png" ContentType="image/png"/>
  <Override PartName="/ppt/media/image30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32.jpeg" ContentType="image/jpeg"/>
  <Override PartName="/ppt/media/image20.wmf" ContentType="image/x-wmf"/>
  <Override PartName="/ppt/media/image17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631D-641E-40CB-8BB2-32E4DA70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1734-3A5D-4517-B222-D17DF7B18B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80D-B077-41C5-A048-8F5F42218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BE14-DD02-4BC0-8A12-454886F2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ерия находится в капельках легочной жидкости выдыхаемой человеком с активным легочным туберкулезом, которые может вдохнуть находящийся поблизости человек. Туберкулез передается исключительно от людей с активным легочным туберкулезом, обычно когда этот человек чихает, кашляет или разговаривает. Если у человека латентный туберкулез, либо внелегочная форма туберкулеза бактерия не может передаться от него другому человеку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пав в легкие, бактерия начинает размножаться. Однако у большинства людей (90-95%) иммунная система достаточно здорова и туберклез остается латентным, то есть заболевание не развивается. У людей с ВИЧ иммунная система может потерять контроль над бактерией: в результате бактерия начнет распространятся по организму и разовьется активная форма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ED98-5219-46AD-B130-87AE02E4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пав в легкие, бактерия начинает размножаться. Однако у большинства людей (90-95%) иммунная система достаточно здорова и туберкyлез остается латентным, то есть заболевание не развивается. У людей с ВИЧ иммунная система может потерять контроль над бактерией: в результате бактерия начнет распространятся по организму и разовьется активная форма туберкулеза. Заболевание может перейти в активную форму через несколько месяцев или через много лет. Другими словами Mycobacterium tuberculosis может многие годы находится в организме человека, но она становится активной и вызывает туберкулез только при ослаблении работы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0F7E-C5F0-43A2-A927-D9805A18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о объяснить дальнейшие шаги которые должен сделать аутрич работник при наличии данных симптомов – «гигиена» кашля, куда направить клиента,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0397-96F2-40AC-B6DA-8B279CAF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ы оценочные данные ВОЗ (Глобальный Отчет за 2009 г)по количеству заболевших туберкулезом в странах мира. Количество больных варируется от низкой до 999 заболевших (обозначен серым цветом) до более 1 000 000 случаев ( обозначен красным цвет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611-7B18-4739-93C9-4B259136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инфицированные люди заболевают активной формой туберкулеза, только 10% из них в течении жизни заболевают туберкулезом.  Переход от инфицирования к заболеванию зависит от состояния иммуной системы, такие факторы как стресс, заболевания снижающее иммунитет (ВИЧ, сахарный диабет, тиретоксикоз и т.д) приводят к активированию латет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что такое МЛУ ТБ и ШЛУ Т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а рекомендация представить данные в более «эмоциональном ключе» например – в 2008 году от туберкулеза каждый день погибло около 5000 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6CC-928B-44FC-ACBB-9BA0880A2B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D804-0BC0-464D-BA3E-8B5EFC5EDB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546-203D-42FF-AA25-B8082E1D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A5B-C7E5-47B0-8DCB-BEA3819D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C73-5E77-47B8-B439-AC3C5143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F83-6CB5-4F6A-AE65-CAF760A1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C989-3EF0-49E5-B37C-A8CF42C2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095-15C6-4EF8-A0F9-5388BC3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CCB-D90D-46B4-8A7D-5F40749B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1DE8-7DD9-43BF-BD82-EAF47E2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CCE8-783B-4D21-A946-57A16E49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46DB-380B-44F3-815C-3113B8BE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69D8-0D29-402D-8B9C-6126FC7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095-ECB9-4E68-A3E0-4F9B65D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FE4-44C6-4566-821E-7FA7E19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862B-6837-4C63-9704-B426892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BFF9-AB96-4FE0-96E5-8AE4F9B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A31-AB8A-480C-8D8F-A70EA9E4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930-F7C7-40C1-B2BB-AD2B5638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53AB-359B-42BB-A2B6-4D2EFEA2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2478-612F-4B3F-8577-11DEF7D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FB93-E3D9-463F-A717-65FFA81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E0F6-4DAB-46EB-8228-E04434F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2639-20D5-4329-AE26-15462FF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F1D-DDEF-43F2-A564-2FD9D8F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7778-85EC-4F8D-B35A-BE3B72F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59C4-78F7-40B4-B951-50263A8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A8E4-5FCB-4A5C-8242-FB403D9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5B15-139F-45D3-8174-99B2389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398F-E221-470C-910E-2FE31B80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0825-E579-44BE-95C4-67354404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8693-1BE5-4748-83FC-6787C47E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90C-91B6-495E-8ADB-3EAC71D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F45-5663-4D1F-831D-9CDD35B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6F9-0F82-4826-B154-54EF93F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3A7-6BDB-4F1E-9776-ADC015E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410-E1FD-4A15-B3AA-0297F84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697-2AE7-490E-AA56-26FD187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2C45-EC52-493B-8843-1B5672BD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0D2E-9530-4021-AA84-F61FFF5D9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EBE-E29E-4973-B706-2F35BE182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УБЕРКУЛЕЗ – БОЛЕЗНЬ убивающая МЕЧ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Главный врач Лениногорского противотуберкулезного диспанс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Хамитов Булат Рамзие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28.03.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временная концепци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ганизации  противотуберкулезной помощи детскому населению Ро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чественная вакцинопрофилактика туберкулеза новорожд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лноценное флюорографическое обследование окружения новорож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явление пациентов с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наибольши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риском        заболевания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ведение контролируемого лечения детей с различными проявлениями туберкулезной инфекции в диспансерах и санато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лноценная изоляция детей из туберкулезных очагов в противотуберкулёзные сан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казатель заболеваемости детей наиболее информативен и достоверно отражает обстановку по туберкулезу в доме! городе! Стране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то «счетчик Гейгера, лакмусовая бумага», с чуткой реакцией на изменений эпидемиологической обстановки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6b6bcf"/>
                </a:solidFill>
                <a:latin typeface="Arial"/>
              </a:rPr>
              <a:t>Заболеваемость детей 0-14 лет туберкулезом в РТ в сравнении с РФ, ПФО за 2007-2016гг </a:t>
            </a:r>
            <a:br>
              <a:rPr sz="2300"/>
            </a:br>
            <a:r>
              <a:rPr b="1" lang="ru-RU" sz="2300" spc="-1" strike="noStrike">
                <a:solidFill>
                  <a:srgbClr val="6b6bcf"/>
                </a:solidFill>
                <a:latin typeface="Arial"/>
              </a:rPr>
              <a:t>(на 100 тыс. населения</a:t>
            </a:r>
            <a:r>
              <a:rPr b="1" lang="ru-RU" sz="23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304920" y="838080"/>
          <a:ext cx="8727840" cy="58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7278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5200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озрастная структура заболеваемости туберкулезом в 2015-2016гг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Объект 7"/>
          <p:cNvGraphicFramePr/>
          <p:nvPr/>
        </p:nvGraphicFramePr>
        <p:xfrm>
          <a:off x="457200" y="2109960"/>
          <a:ext cx="402120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09960"/>
                    <a:ext cx="40212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Диаграмма 12"/>
          <p:cNvGraphicFramePr/>
          <p:nvPr/>
        </p:nvGraphicFramePr>
        <p:xfrm>
          <a:off x="4737240" y="1879560"/>
          <a:ext cx="394164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879560"/>
                    <a:ext cx="394164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14"/>
          <p:cNvSpPr/>
          <p:nvPr/>
        </p:nvSpPr>
        <p:spPr>
          <a:xfrm>
            <a:off x="20145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5975280" y="179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новные оперативные задачи детской фтизиатрической службы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Профилактика туберкулеза среди детей раннего возраста (полностью ликвидировать отказы от вакцинации БЦЖ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Совместная работа взрослых и детских фтизиатров по предупреждению заболеваемости детей в очагах туб.инфекции согласно СП 3.1.2.3114-13 «Профилактика туберкулеза» (изоляция больного до полного выздоравле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Обеспечить проведение иммунодиагностики туберкулезной инфекции у детей в полном объеме (усиление работы комиссии по делам несовершеннолетних с родителями отказниками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то такое туберкуле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457200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уберкулез — инфекционное заболевание, которое вызывается микобактериями туберкулеза (Mycobacter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berculosi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vi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известно более 74  разновидностей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ни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атогенным вида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относятся возбудители туберкулез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uberculosis, M.bovi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africanum,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 также возбудитель проказы –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leprae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до 25 видов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етуберкулезных микобактерий являются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тенциально патогенным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возбудителями микобактериозов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которых основным является комплек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avium-intracellulare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стальные вид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етуберкулезных микобактерий относятся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 сапрофи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886200" cy="2489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029200" y="1316160"/>
            <a:ext cx="3429000" cy="23414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H="1">
            <a:off x="7924680" y="2895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Характеристик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збудителя туберкул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збудитель туберкулез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ткрытый   Р. Кохом в 1882 г, относ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 семейству лучистых грибов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tinomycetes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оду микобактерий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cobacterium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йства микобактерии туберкулез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стойчивость к действию кислот и спи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храняют жизнеспособность при воздействии различных физических и химических аг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 влажной мокроте (при определенных условиях) бактерии Коха могут оставаться жизнеспособными до полу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ысохшей мокроте на различных предметах  (мебель, книги, посуда, постельное белье, полотенца, пол,  стены и пр.) они могут сохранять свои свойства в  течение нескольки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живаемость микобактерий на отдельных предметах внешней сре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5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хшая мокрота                                     годы (в темно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дметы домашней обстановки            меся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личная пыль                                             10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раницы книг                                           3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воз                                                             4-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чва, трупы после захоронения            1-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екалии животных на пастбищах         до 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сло и сыры в                                          8-10 мес.                                  условиях холоди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ырое молоко                                             до 2 не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мораживание при температуре           до 8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 -180° С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убительно действуют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палочку Кох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нечный свет и УФИ                   5-1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сеянный свет                             не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рямой солнечный свет                 1-2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стеризация при 85°                     3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ипячение                                        5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-5-% р-р хлорамина                       5 часо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уберкулеза в мире и реги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туберкул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передается туберкул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развивается заболе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знаки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одательство по защите детских и подростковых коллективов от заболеваний Т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алочка Коха в организ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иводит к изменению состояния иммун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ыстро размножается  и питается человеческими тканями, разрушая и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месте с кровью и лимфой она может распространяться по всему орган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травляет организм человека продуктами своей жизне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се это может привести к гибели всего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ажная особенность палочки Ко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142640"/>
            <a:ext cx="871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сле первичного заражения заболевание развивается не всегда, потому что микобактерия туберкулёза может  длительное время (годы, десятилетия) находиться в организ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 причиняя ему вр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акое состояние относительного равновесия может нарушиться в пользу возбудителя при снижении защитных сил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(снижение иммуните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ица восприимчивые к заболеванию туберкулез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ти младшего и школьного возраста, в том числе не привитые в род д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ро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ИЧ инфиц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, страдающие алкоголизмом, наркома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ременные, женщины в послеродов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 с хроническими заболеваниями органов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ольные с дефицитом иммунной системы (с сахарным диабетом, язвенной болезнью, длительно принимающие гормоны и иммунодепресса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игр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ути передачи туберкул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о-капельный, пищевой, контакт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будитель туберкулеза распространяется по воздуху при кашле, чихании, громком разго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но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ой формой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чения может заразить 10-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#2 Animation"/>
          <p:cNvPicPr/>
          <p:nvPr/>
        </p:nvPicPr>
        <p:blipFill>
          <a:blip r:embed="rId1"/>
          <a:stretch/>
        </p:blipFill>
        <p:spPr>
          <a:xfrm>
            <a:off x="5410080" y="1295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M130814-Man_sneezing-SPL"/>
          <p:cNvPicPr/>
          <p:nvPr/>
        </p:nvPicPr>
        <p:blipFill>
          <a:blip r:embed="rId2"/>
          <a:stretch/>
        </p:blipFill>
        <p:spPr>
          <a:xfrm>
            <a:off x="6019920" y="35812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M130797-Man_sneezing-SPL"/>
          <p:cNvPicPr/>
          <p:nvPr/>
        </p:nvPicPr>
        <p:blipFill>
          <a:blip r:embed="rId3"/>
          <a:stretch/>
        </p:blipFill>
        <p:spPr>
          <a:xfrm>
            <a:off x="3886200" y="5156280"/>
            <a:ext cx="28195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ой путь заражения туберкуле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новной путь передачи туберкулеза воздушно-капельный в результате конта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мейного  (самый опасный, тем, что  он постоянный и близ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фессио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учай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410080" y="1905120"/>
          <a:ext cx="35053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905120"/>
                    <a:ext cx="3505320" cy="3162240"/>
                  </a:xfrm>
                  <a:prstGeom prst="rect">
                    <a:avLst/>
                  </a:prstGeom>
                  <a:ln w="57240">
                    <a:solidFill>
                      <a:srgbClr val="99cc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к развивается заболев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1"/>
          <p:cNvPicPr/>
          <p:nvPr/>
        </p:nvPicPr>
        <p:blipFill>
          <a:blip r:embed="rId1"/>
          <a:srcRect l="23754" t="37832" r="37008" b="36445"/>
          <a:stretch/>
        </p:blipFill>
        <p:spPr>
          <a:xfrm>
            <a:off x="152280" y="1523880"/>
            <a:ext cx="4480200" cy="4530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4724280" y="1600200"/>
            <a:ext cx="41911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ельки мокроты с возбудителем  туберкулеза попадают в легкие вдохнувшего их человека  и оседают в дыхательных путях, тканях лег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428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ак развивается заболе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иммунитет инфицированного туберкулезом организма ослабевает, туберкулезные 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ют размножа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вается боле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езнь может развиваться от нескольких дней до нескольких десятиле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% из всех инфицированных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ей, заболеваю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зом в течение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ВИЧ инфицированных людей 10% заболеют в первые 2 года после контакта с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5988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486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иболее опасно заражение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раннем детском возрасте,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в котором у детей могут развиваться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генерализованные, прогрессирующие формы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возрасте 7-14 лет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дет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олее устойчивы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к туберкулезной инфекции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и заражение реже приводит к заболеванию. Если же заболевание и развивается, то оно протекает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лагоприятнее и при лечении заканчивается выздоровлением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возрасте 14-16 лет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ступает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снижение сопротивляемост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организма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 фоне которой у инфицированных ранее происходит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еактивация первичной инфекции (вторичны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уберкулез)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а само заболевание протекае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тяжело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 юношеском и молодом возрасте (до 25 лет)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наиболее часто происходит обострение первичной эндогенной инфекции. В этом возрасте одновременно повышается восприимчивость и к экзогенной туберкулезной инфекции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 зрелом возрасте 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 наиболее высокая сопротивляемость к туберкулезу, которая снова снижается у пожилых и стариков. У них туберкулез чаще протекает в виде хронических фиброзно-кавернозных форм, иногда без выраженных клинических симптомов и поэтому остается нераспозн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имптомы туберку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и относящиеся к органам дых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шель более 2-х не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и в груд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ыш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овохаркань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чие призна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ря массы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омляем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хора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чные п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ря аппети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о - Признаки в зависимости от места по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circle"/>
          <p:cNvPicPr/>
          <p:nvPr/>
        </p:nvPicPr>
        <p:blipFill>
          <a:blip r:embed="rId1"/>
          <a:stretch/>
        </p:blipFill>
        <p:spPr>
          <a:xfrm>
            <a:off x="4419720" y="1981080"/>
            <a:ext cx="4267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1963" t="0" r="0" b="0"/>
          <a:stretch/>
        </p:blipFill>
        <p:spPr>
          <a:xfrm>
            <a:off x="88920" y="990720"/>
            <a:ext cx="8964720" cy="5484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блема туберку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88329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ящее и будущее в диагностике:</a:t>
            </a:r>
            <a:br>
              <a:rPr sz="32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явились новые технологии выявления и диагностики туберкулезной 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0" y="1557360"/>
            <a:ext cx="2716200" cy="18730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р. МАН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первые положительная, нарастание, гиперер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Блок-схема: процесс 4"/>
          <p:cNvGrpSpPr/>
          <p:nvPr/>
        </p:nvGrpSpPr>
        <p:grpSpPr>
          <a:xfrm>
            <a:off x="3276720" y="1916280"/>
            <a:ext cx="2736720" cy="1368360"/>
            <a:chOff x="3276720" y="1916280"/>
            <a:chExt cx="2736720" cy="1368360"/>
          </a:xfrm>
        </p:grpSpPr>
        <p:pic>
          <p:nvPicPr>
            <p:cNvPr id="210" name="Блок-схема: процесс 4" descr=""/>
            <p:cNvPicPr/>
            <p:nvPr/>
          </p:nvPicPr>
          <p:blipFill>
            <a:blip r:embed="rId1"/>
            <a:stretch/>
          </p:blipFill>
          <p:spPr>
            <a:xfrm>
              <a:off x="3276720" y="1916280"/>
              <a:ext cx="2736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6"/>
            <p:cNvSpPr/>
            <p:nvPr/>
          </p:nvSpPr>
          <p:spPr>
            <a:xfrm>
              <a:off x="3337920" y="1938240"/>
              <a:ext cx="2547720" cy="1301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buClr>
                  <a:srgbClr val="8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ДИАСКИНТЕСТ®,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TB-sp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Овал 5"/>
          <p:cNvGrpSpPr/>
          <p:nvPr/>
        </p:nvGrpSpPr>
        <p:grpSpPr>
          <a:xfrm>
            <a:off x="6802560" y="1773360"/>
            <a:ext cx="2073240" cy="1646280"/>
            <a:chOff x="6802560" y="1773360"/>
            <a:chExt cx="2073240" cy="1646280"/>
          </a:xfrm>
        </p:grpSpPr>
        <p:pic>
          <p:nvPicPr>
            <p:cNvPr id="213" name="Овал 5" descr=""/>
            <p:cNvPicPr/>
            <p:nvPr/>
          </p:nvPicPr>
          <p:blipFill>
            <a:blip r:embed="rId2"/>
            <a:stretch/>
          </p:blipFill>
          <p:spPr>
            <a:xfrm>
              <a:off x="6802560" y="1773360"/>
              <a:ext cx="20732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147080" y="2028960"/>
              <a:ext cx="138420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КТ, МС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8"/>
          <p:cNvGrpSpPr/>
          <p:nvPr/>
        </p:nvGrpSpPr>
        <p:grpSpPr>
          <a:xfrm>
            <a:off x="743040" y="4492800"/>
            <a:ext cx="2847960" cy="1511280"/>
            <a:chOff x="743040" y="4492800"/>
            <a:chExt cx="2847960" cy="1511280"/>
          </a:xfrm>
        </p:grpSpPr>
        <p:pic>
          <p:nvPicPr>
            <p:cNvPr id="216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43040" y="4492800"/>
              <a:ext cx="28479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800280" y="4519440"/>
              <a:ext cx="273672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Формирование новых групп ри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Соединительная линия уступом 11"/>
          <p:cNvCxnSpPr/>
          <p:nvPr/>
        </p:nvCxnSpPr>
        <p:spPr>
          <a:xfrm rot="5400000">
            <a:off x="3213360" y="3641040"/>
            <a:ext cx="858240" cy="722520"/>
          </a:xfrm>
          <a:prstGeom prst="bentConnector3">
            <a:avLst>
              <a:gd name="adj1" fmla="val 50146"/>
            </a:avLst>
          </a:prstGeom>
          <a:ln w="572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19" name="Прямоугольник 22"/>
          <p:cNvGrpSpPr/>
          <p:nvPr/>
        </p:nvGrpSpPr>
        <p:grpSpPr>
          <a:xfrm>
            <a:off x="5126040" y="4529160"/>
            <a:ext cx="2987640" cy="1511280"/>
            <a:chOff x="5126040" y="4529160"/>
            <a:chExt cx="2987640" cy="1511280"/>
          </a:xfrm>
        </p:grpSpPr>
        <p:pic>
          <p:nvPicPr>
            <p:cNvPr id="220" name="Прямоугольник 22" descr=""/>
            <p:cNvPicPr/>
            <p:nvPr/>
          </p:nvPicPr>
          <p:blipFill>
            <a:blip r:embed="rId4"/>
            <a:stretch/>
          </p:blipFill>
          <p:spPr>
            <a:xfrm>
              <a:off x="5126040" y="4529160"/>
              <a:ext cx="2987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178600" y="4556160"/>
              <a:ext cx="288108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Новый подход 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профилактическому леч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40"/>
          <p:cNvSpPr/>
          <p:nvPr/>
        </p:nvSpPr>
        <p:spPr>
          <a:xfrm rot="16200000">
            <a:off x="2655720" y="2320560"/>
            <a:ext cx="561960" cy="761760"/>
          </a:xfrm>
          <a:prstGeom prst="downArrow">
            <a:avLst>
              <a:gd name="adj1" fmla="val 50000"/>
              <a:gd name="adj2" fmla="val 33889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1"/>
          <p:cNvSpPr/>
          <p:nvPr/>
        </p:nvSpPr>
        <p:spPr>
          <a:xfrm rot="16200000">
            <a:off x="6111720" y="2248920"/>
            <a:ext cx="561960" cy="761760"/>
          </a:xfrm>
          <a:prstGeom prst="downArrow">
            <a:avLst>
              <a:gd name="adj1" fmla="val 50000"/>
              <a:gd name="adj2" fmla="val 33889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Соединительная линия уступом 27"/>
          <p:cNvCxnSpPr/>
          <p:nvPr/>
        </p:nvCxnSpPr>
        <p:spPr>
          <a:xfrm flipH="1" rot="16200000">
            <a:off x="6365520" y="3564360"/>
            <a:ext cx="786600" cy="803880"/>
          </a:xfrm>
          <a:prstGeom prst="bentConnector3">
            <a:avLst>
              <a:gd name="adj1" fmla="val 50000"/>
            </a:avLst>
          </a:prstGeom>
          <a:ln w="57240">
            <a:solidFill>
              <a:srgbClr val="993366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2"/>
          <p:cNvGraphicFramePr/>
          <p:nvPr/>
        </p:nvGraphicFramePr>
        <p:xfrm>
          <a:off x="3002040" y="2206800"/>
          <a:ext cx="6197400" cy="38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206800"/>
                    <a:ext cx="6197400" cy="38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000" y="236160"/>
            <a:ext cx="7920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75d1"/>
                </a:solidFill>
                <a:latin typeface="Arial"/>
              </a:rPr>
              <a:t>Методы выявления туберкулеза у детей и подростков по 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Объект 7"/>
          <p:cNvGraphicFramePr/>
          <p:nvPr/>
        </p:nvGraphicFramePr>
        <p:xfrm>
          <a:off x="-415800" y="1138320"/>
          <a:ext cx="6543720" cy="48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15800" y="1138320"/>
                    <a:ext cx="65437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13"/>
          <p:cNvSpPr/>
          <p:nvPr/>
        </p:nvSpPr>
        <p:spPr>
          <a:xfrm>
            <a:off x="2216880" y="13669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536580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од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324000" y="61657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4% детей и 58,8% подростков выявлены при иммунодиагностике (массовой и индивидуаль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уберкулез, у вновь выявленного больного вовремя диагностированный, полностью излеч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ечение таких больных полностью бесплатно (для больного) - за счет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03320" y="667800"/>
            <a:ext cx="8712000" cy="61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Держитесь подальше от кашляющ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ребуйте от кашляющего человека прикрывать рот во время кашля или носить медицинскую ма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Избегайте всего, что может ослабить защитные силы Вашего организма и берегите св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облюдайте режим труда, отдыха и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Регулярно занимайтесь спор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Больше находитесь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Не курите, не позволяйте курить другим в Вашем окру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Не злоупотребляйте алкоголем, нарк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Чаще проветривайте помещения, где находитесь (класс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истематически проводите влажную уборку помещений и никогда не пользуйтесь ве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Пользуйтесь индивидуальной посудой и средствами гиги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Обязательно соблюдайте личную гигиену (мытье рук после возвращения с улицы, из транспорта, из туалета и перед ед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58920" y="-54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Санитарная 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395280" y="11592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е оперативные задачи детской фтизиатрической служ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Схема 4" descr=""/>
          <p:cNvPicPr/>
          <p:nvPr/>
        </p:nvPicPr>
        <p:blipFill>
          <a:blip r:embed="rId1"/>
          <a:stretch/>
        </p:blipFill>
        <p:spPr>
          <a:xfrm>
            <a:off x="-122400" y="1047600"/>
            <a:ext cx="92361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Объект 1"/>
          <p:cNvGrpSpPr/>
          <p:nvPr/>
        </p:nvGrpSpPr>
        <p:grpSpPr>
          <a:xfrm>
            <a:off x="360360" y="1579680"/>
            <a:ext cx="8271000" cy="4565520"/>
            <a:chOff x="360360" y="1579680"/>
            <a:chExt cx="8271000" cy="4565520"/>
          </a:xfrm>
        </p:grpSpPr>
        <p:pic>
          <p:nvPicPr>
            <p:cNvPr id="241" name="Объект 1" descr=""/>
            <p:cNvPicPr/>
            <p:nvPr/>
          </p:nvPicPr>
          <p:blipFill>
            <a:blip r:embed="rId1"/>
            <a:stretch/>
          </p:blipFill>
          <p:spPr>
            <a:xfrm>
              <a:off x="360360" y="1579680"/>
              <a:ext cx="827100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8088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Статья 4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ПРАВО КАЖДОГО ЧЕЛОВЕКА НА ОХРАНУ ЗДОРОВ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Статья 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ПРАВО КАЖДОГО ЧЕЛОВЕКА НА БЛАГОПРИЯТНУЮ ОКРУЖАЮЩУЮ СРЕД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30.03.1999 № 52-ФЗ «О санитарно-эпидемиологическом благополучии насел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Объект 1"/>
          <p:cNvGrpSpPr/>
          <p:nvPr/>
        </p:nvGrpSpPr>
        <p:grpSpPr>
          <a:xfrm>
            <a:off x="969840" y="1731960"/>
            <a:ext cx="7351920" cy="4765680"/>
            <a:chOff x="969840" y="1731960"/>
            <a:chExt cx="7351920" cy="4765680"/>
          </a:xfrm>
        </p:grpSpPr>
        <p:pic>
          <p:nvPicPr>
            <p:cNvPr id="245" name="Объект 1" descr=""/>
            <p:cNvPicPr/>
            <p:nvPr/>
          </p:nvPicPr>
          <p:blipFill>
            <a:blip r:embed="rId1"/>
            <a:stretch/>
          </p:blipFill>
          <p:spPr>
            <a:xfrm>
              <a:off x="969840" y="1731960"/>
              <a:ext cx="735192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90720" y="1752480"/>
              <a:ext cx="730872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ff00"/>
                  </a:solidFill>
                  <a:latin typeface="Arial"/>
                </a:rPr>
                <a:t>ст. 10 « каждый гражданин обязан заботиться о здоровье и гигиеническом воспитании своих детей и не осуществлять  действия, влекущие за собой нарушение прав других детей на охрану здоровья и благоприятную среду обитания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едеральный закон от 30.03.1999 № 52-ФЗ «О санитарно-эпидемиологическом благополучи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Объект 1"/>
          <p:cNvGrpSpPr/>
          <p:nvPr/>
        </p:nvGrpSpPr>
        <p:grpSpPr>
          <a:xfrm>
            <a:off x="822240" y="2419200"/>
            <a:ext cx="6980400" cy="3889440"/>
            <a:chOff x="822240" y="2419200"/>
            <a:chExt cx="6980400" cy="3889440"/>
          </a:xfrm>
        </p:grpSpPr>
        <p:pic>
          <p:nvPicPr>
            <p:cNvPr id="249" name="Объект 1" descr=""/>
            <p:cNvPicPr/>
            <p:nvPr/>
          </p:nvPicPr>
          <p:blipFill>
            <a:blip r:embed="rId1"/>
            <a:stretch/>
          </p:blipFill>
          <p:spPr>
            <a:xfrm>
              <a:off x="822240" y="2419200"/>
              <a:ext cx="698040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38080" y="2438280"/>
              <a:ext cx="694872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ff00"/>
                  </a:solidFill>
                  <a:latin typeface="Arial"/>
                </a:rPr>
                <a:t>ст.8 «каждый гражданин Российской Федерации имеют право на благоприятную среду обитания, факторы которой не оказывают вредного воздействия на человека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363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21 ноября 2011 г. N 323-ФЗ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"Об основах охраны здоровья граждан в Российской Федер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Объект 1"/>
          <p:cNvGrpSpPr/>
          <p:nvPr/>
        </p:nvGrpSpPr>
        <p:grpSpPr>
          <a:xfrm>
            <a:off x="438120" y="1889280"/>
            <a:ext cx="8261280" cy="4554360"/>
            <a:chOff x="438120" y="1889280"/>
            <a:chExt cx="8261280" cy="4554360"/>
          </a:xfrm>
        </p:grpSpPr>
        <p:pic>
          <p:nvPicPr>
            <p:cNvPr id="253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88928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7200" y="190512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 u="sng">
                  <a:solidFill>
                    <a:srgbClr val="ffff00"/>
                  </a:solidFill>
                  <a:uFillTx/>
                  <a:latin typeface="Arial"/>
                </a:rPr>
                <a:t>Статья 18. </a:t>
              </a: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Право на охрану здоровь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1. Каждый имеет право на охрану здоровья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2. Право на охрану здоровья обеспечивается охраной окружающей среды, созданием безопасных условий труда, благоприятных условий труда, быта, отдыха, воспитания и обучения граждан, производством и реализацией продуктов питания соответствующего качества, качественных, безопасных и доступных лекарственных препаратов, а также оказанием доступной и качественной медицинской помощ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18 июня 2001 года №77-ФЗ «О предупреждении распространения туберкулеза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Объект 2"/>
          <p:cNvGrpSpPr/>
          <p:nvPr/>
        </p:nvGrpSpPr>
        <p:grpSpPr>
          <a:xfrm>
            <a:off x="822240" y="1962000"/>
            <a:ext cx="7724880" cy="3994200"/>
            <a:chOff x="822240" y="1962000"/>
            <a:chExt cx="7724880" cy="3994200"/>
          </a:xfrm>
        </p:grpSpPr>
        <p:pic>
          <p:nvPicPr>
            <p:cNvPr id="257" name="Объект 2" descr=""/>
            <p:cNvPicPr/>
            <p:nvPr/>
          </p:nvPicPr>
          <p:blipFill>
            <a:blip r:embed="rId1"/>
            <a:stretch/>
          </p:blipFill>
          <p:spPr>
            <a:xfrm>
              <a:off x="822240" y="1962000"/>
              <a:ext cx="772488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38080" y="1981080"/>
              <a:ext cx="769644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п.2 статьи 7  «противотуберкулезная помощь оказывается гражданам при их добровольном обращении или с их согласия и родители или опекуны  вправе отказаться от обследования  ребенка в целях раннего выявления заболевания или инфицирования возбудителем туберкулез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блемы туберкул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/3 населения планеты (более 2 млрд.) инфицирована микобактерией туберкул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Б болеют больше, чем когда либо и  прежде особенно молодых людей , трудоспособ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Б с множественной лекарственной устойчивостью (ТБ-МЛУ) зарегистрирован в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109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 включенных в эпидемиологически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беркулез с широчайшей лекарственной устойчивостью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D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ТБ-ШЛ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ая угроза миру, РФ и 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Объект 1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261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Санитарно-эпидемиологические правила СП 3.1.2.3114-13 «Профилактика туберкулеза» прошли публичные обсуждения, получили положительное заключение Минэкономразвития России  об оценке регулирующего воздействия, зарегистрированы   в Минюсте России 06.05.2014г. № 32182 и обязательны к исполнению как юридическими лицами, так и физическими лица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Объект 1" descr=""/>
          <p:cNvPicPr/>
          <p:nvPr/>
        </p:nvPicPr>
        <p:blipFill>
          <a:blip r:embed="rId1"/>
          <a:stretch/>
        </p:blipFill>
        <p:spPr>
          <a:xfrm>
            <a:off x="585720" y="1554120"/>
            <a:ext cx="7772400" cy="429732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низ 3"/>
          <p:cNvSpPr/>
          <p:nvPr/>
        </p:nvSpPr>
        <p:spPr>
          <a:xfrm>
            <a:off x="3863880" y="2057400"/>
            <a:ext cx="484200" cy="762120"/>
          </a:xfrm>
          <a:prstGeom prst="downArrow">
            <a:avLst>
              <a:gd name="adj1" fmla="val 78611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низ 4"/>
          <p:cNvSpPr/>
          <p:nvPr/>
        </p:nvSpPr>
        <p:spPr>
          <a:xfrm>
            <a:off x="3868560" y="3809880"/>
            <a:ext cx="484200" cy="6858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Объект 1"/>
          <p:cNvGrpSpPr/>
          <p:nvPr/>
        </p:nvGrpSpPr>
        <p:grpSpPr>
          <a:xfrm>
            <a:off x="438120" y="1584360"/>
            <a:ext cx="8261280" cy="4981680"/>
            <a:chOff x="438120" y="1584360"/>
            <a:chExt cx="8261280" cy="4981680"/>
          </a:xfrm>
        </p:grpSpPr>
        <p:pic>
          <p:nvPicPr>
            <p:cNvPr id="269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9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57200" y="1600200"/>
              <a:ext cx="82296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ffff00"/>
                  </a:solidFill>
                  <a:latin typeface="Arial"/>
                </a:rPr>
                <a:t>п</a:t>
              </a: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. 5.7,5.8 Дети и подростки, направленные на консультацию в противотуберкулезный диспансер,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, не допускаются в детские организаци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Дети, туберкулинодиагностика которым не проводилась, допускаются в детскую организацию при наличии заключения врача-фтизиатра об отсутствии заболева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90835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 3.1.2.3114-13 «Профилактика туберку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15680" y="1331640"/>
            <a:ext cx="803268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ерриторию очага включается не только квартира, в которой проживает больной туберкулезом, но и лестничная клетка, подъезд дома и группа близлежащих домов, объединенных общим дв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ичное эпидемиологическое обследование  таких очагов необходимо осуществлять при обязательном участии эпидемиолога ФБУЗ «Центр гигиены и эпидемиологии в Республике Татарстан» с дальнейшей разработкой комплекса санитарно-противоэпидемических мероприя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4"/>
          <p:cNvSpPr/>
          <p:nvPr/>
        </p:nvSpPr>
        <p:spPr>
          <a:xfrm>
            <a:off x="600120" y="1332000"/>
            <a:ext cx="7921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9060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Приказ МЗ РФ №951 от 29.12.2014 «Об утверждении методических рекомендаций по совершенствованию диагностики и лечения туберкулеза органов дых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ановление Главного государственного санитарного врача РФ от 22 октября 2013г. №60 «Об утверждении санитарно-эпидемиологических правил СП 3.1.2.3114-13 «Профилактика туберкулеза»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регистрировано в Минюсте РФ 6 мая 2014г. За №321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каз МЗ РФ №125н от 21.03.2014г. «Об утверждении национального календаря профилактических приви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каз МЗ РТ от 12.05.2015 № 855 «Об организации профилактики туберкулеза у ВИЧ-инфицированных и детей, рожденных от ВИЧ-инфицированных мате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4356000" y="620640"/>
            <a:ext cx="4572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арл Людвиг Берне)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258920" y="393372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Берегите сво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539640" y="487692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692360" y="380880"/>
            <a:ext cx="50767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713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уберкулез сегодня остается  наиболее распространенной болезнью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В настоящее время в мире около 15 млн человек больны туберкулёзом, из них 11 млн — в трудоспособном возр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Около трети жителей нашей планеты инфицированы микобактерией туберкулё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На планете каждую секунду туберкулезную инфекцию получает один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Каждую минуту в мире от туберкулеза умирают 3 человека. Каждый час в мире погибают свыше 200 больных. Каждый день на планете туберкулез уносит 5 тысяч жизней. Ежегодно погибают от 1,5 до 2 млн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Ежегодно в РФ от различных форм туберкулеза умирают около 30 тысяч граждан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ждый год регистрируется 18 тысяч новых бо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ждый четвертый из умирающих взрослых погибает от заболе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звание болезни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«туберкулез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сходи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ецифической гранулем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чага хронического воспален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который  выглядит как небольшо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угоро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ат.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uberculum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уберкул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первые употребил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XVI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е Ф.Сильви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при описании поражений легких у детей, умерших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ахотки (греч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htisis –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истощение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качестве самостоятельного понятия термин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уберкулез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тали использов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сле того, как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.Бейль и Р.Лаэнне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казали, чт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туберкуло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вляется непременным спутником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гадки о заразности туберкулез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зародились в далеком прошлом, но тольк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1868г. Ж.А. Вильмен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удалось воспроизвести заболевание у животных при заражении мокротой от больных туберкулезом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24 марта 1882г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заседании Берлинского физиологического общества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.Кох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общил о своих исследованиях по этиологии туберкулеза: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…в мокроте туберкулезных больных имеются палочки, которые по тинкториальным свойствам и росту на питательных средах отличаются от всех известных бактерий, заражение чистыми культурами вызывает туберкулезный процесс у животных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8920" y="25992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ре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еми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рганизации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ВО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день, когда немец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рач -микроби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берт Ко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ъявил о сделанном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крытии возбудителя туберкулеза  отмечаетс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емирный день борьбы с туберкул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92360" y="5229000"/>
            <a:ext cx="36781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берт Ко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(1843 - 19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Лауреат Нобелевской пре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1" descr="96_2"/>
          <p:cNvPicPr/>
          <p:nvPr/>
        </p:nvPicPr>
        <p:blipFill>
          <a:blip r:embed="rId1"/>
          <a:stretch/>
        </p:blipFill>
        <p:spPr>
          <a:xfrm>
            <a:off x="5076720" y="404640"/>
            <a:ext cx="388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5508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 1993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З объявляет ТУБЕРКУЛЁ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ациональным бедствием, а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4 марта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«Всемирным днем борь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 туберкулезом».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34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амитов Б Р</cp:lastModifiedBy>
  <dcterms:modified xsi:type="dcterms:W3CDTF">2017-03-28T08:03:07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